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8EBD-A929-4055-BD74-020E5B7CC945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D56D-B5B7-41E1-B237-BBDD3FEE6100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CC19-92FD-4C4F-8F9B-6CADA7441FDC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53960" y="299880"/>
            <a:ext cx="745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Data Formats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Choosing and adopting community accepted standards; Version 1.0, Reviewed ??/??/??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Data Format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Choosing and adopting community accepted standard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urt Tilm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S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1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2" name="Picture 31" descr="nasa_3_c"/>
          <p:cNvPicPr/>
          <p:nvPr/>
        </p:nvPicPr>
        <p:blipFill>
          <a:blip r:embed="rId1"/>
          <a:stretch/>
        </p:blipFill>
        <p:spPr>
          <a:xfrm>
            <a:off x="558720" y="7848720"/>
            <a:ext cx="167184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voiding proprietary forma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uilding understandable spreadshee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Using self-describing data forma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ome guidelines for choosing and adopting community accepted standard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ost projects (rightly so) focus on the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content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of their data files, you need to consider the format as well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nce you captured or created the data, and stored them in your own files, you know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ow the data are </a:t>
            </a:r>
            <a:r>
              <a:rPr b="1" i="1" lang="en-US" sz="2800" spc="-1" strike="noStrike">
                <a:solidFill>
                  <a:srgbClr val="ff0000"/>
                </a:solidFill>
                <a:latin typeface="Helvetica Neue"/>
              </a:rPr>
              <a:t>organized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,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ow to </a:t>
            </a:r>
            <a:r>
              <a:rPr b="1" i="1" lang="en-US" sz="2800" spc="-1" strike="noStrike">
                <a:solidFill>
                  <a:srgbClr val="ff0000"/>
                </a:solidFill>
                <a:latin typeface="Helvetica Neue"/>
              </a:rPr>
              <a:t>read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them,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ow to </a:t>
            </a:r>
            <a:r>
              <a:rPr b="1" i="1" lang="en-US" sz="2800" spc="-1" strike="noStrike">
                <a:solidFill>
                  <a:srgbClr val="ff0000"/>
                </a:solidFill>
                <a:latin typeface="Helvetica Neue"/>
              </a:rPr>
              <a:t>use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them,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haracteristics of the data that could </a:t>
            </a:r>
            <a:r>
              <a:rPr b="1" i="1" lang="en-US" sz="2800" spc="-1" strike="noStrike">
                <a:solidFill>
                  <a:srgbClr val="ff0000"/>
                </a:solidFill>
                <a:latin typeface="Helvetica Neue"/>
              </a:rPr>
              <a:t>constrain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their us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goal of a good data format is to make it easier for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others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to read the data too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any man hours have gone into developing standards for formats – try to learn from them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use community standards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f you try to develop your data format from scratch, you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will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forget something.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uild on the experience and improvements built into the community standards over years of us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ools and analysis software natively support reading community standard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duce development effort and support reus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ositive feedback – they are more likely to be adopted by other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use community standards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0" name="Picture 3" descr=""/>
          <p:cNvPicPr/>
          <p:nvPr/>
        </p:nvPicPr>
        <p:blipFill>
          <a:blip r:embed="rId1"/>
          <a:stretch/>
        </p:blipFill>
        <p:spPr>
          <a:xfrm>
            <a:off x="1625760" y="2438280"/>
            <a:ext cx="9963000" cy="5639040"/>
          </a:xfrm>
          <a:prstGeom prst="rect">
            <a:avLst/>
          </a:prstGeom>
          <a:ln w="0">
            <a:noFill/>
          </a:ln>
        </p:spPr>
      </p:pic>
      <p:sp>
        <p:nvSpPr>
          <p:cNvPr id="751" name="TextBox 4"/>
          <p:cNvSpPr/>
          <p:nvPr/>
        </p:nvSpPr>
        <p:spPr>
          <a:xfrm>
            <a:off x="10065960" y="845820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http://xkcd.com/927/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 few guidelin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nsider your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archive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o they have any recommendations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nsider your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users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ho wants this data? Why do they want it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hat do they want to do with it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ill they be using your data in concert with other data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nsider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heritage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hat worked well for similar data in the past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hat could be done better for newly created data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nsider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tools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ry to use data formats supported by the software you intend to use it with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DF – Hierarchical Data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DF4 and HDF5 versions are in use toda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 NASA variant called HDF-EOS is used within the Earth Observing System program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e Aura project developed a common approach across their instruments and released guidelines as a Technical Not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etCDF – Network Common Data Form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idely used by agencies including NASA and NOAA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limate and forecast (CF) metadata conventions help standardize some things into NetCDF in a common manner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dopting standard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standard gives you a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starting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point, not a complete solution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Communicate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early with a broad range of data users: archivists, software engineers, scientis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nsider how you will be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writing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the data and how you will be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reading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the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Get feedback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before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making final decision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tart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sharing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sample data in proposed format to nail down specifics and work out ambiguiti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Document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your use and application of the standard completely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HDF: http://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ww.hdfgroup.or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DF-EOS: http://hdfeos.org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HDF-EOS Aura File Format Guidelines: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http://disc.sci.gsfc.nasa.gov/Aura/additional/documentation/HDFEOS_Aura_File_Format_Guidelines.pdf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http://www.esdswg.org/spg/spgfolder/events/esdswg-meeting-october-25-27-2005/auraasabestpracticerev2.pdf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etCDF: http://www.unidata.ucar.edu/software/netcdf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F: http://cf-pcmdi.llnl.gov/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Curt</cp:lastModifiedBy>
  <dcterms:modified xsi:type="dcterms:W3CDTF">2011-11-30T20:33:21Z</dcterms:modified>
  <cp:revision>48</cp:revision>
  <dc:subject/>
  <dc:title>ESIP Federation 101</dc:title>
</cp:coreProperties>
</file>